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D7F-3206-4136-9B94-25015D66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394-4979-424D-B096-7E7A6806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539E4-3E6B-469B-ADDD-3B7F7FC0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C8F62-38F3-4677-86FA-F640A56B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5D1A1-9CA5-46C4-A6B3-D58CCE48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47B6F-0951-4710-94D0-AE61EB27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804F4-B147-4A1C-B1AF-D42B90EF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82B2B-7012-466F-94FE-8BF530D0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C807D-B942-4399-8A99-C1A20C8A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89D01-B913-4121-98E2-8BF623EF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4FF46-9BB1-4C90-A614-72A7887F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B82CB-81A5-4F2C-9505-91435754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E6B-3C8E-41CB-8CFB-1DBE7D3E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AA812-DF4F-4972-AE85-08BEC8E5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49B02-8FFA-4C66-BA34-0D19D3E6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D97A8-2505-4939-94C5-AB5424D4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16040-4389-4396-8C11-A8495253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F023B-F4F7-415A-B269-C8787B81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06F49-2F44-442E-9636-159F9571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485EA-2E2B-486B-AF11-A0AE1F6C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F0F68-3E76-4AA4-B0FA-E1C42504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D5611-B63F-4D0B-90FB-548B0EFD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332B0-CDD3-4AD2-A2CA-CC433F1A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5D3-63C6-4C45-9CB9-7E9ACED7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5BC09-05D5-4D72-9C58-C0FF1BFE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1BC64-07D2-45C9-ACCC-6B0725D4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3785D-36E6-402F-A3B6-A364670D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054D5-3C6E-429E-BB45-EEE0F311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04E67-4FF1-466A-8AD8-44453C28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29AD5-DEB0-4D43-A680-E23D4BD5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8C1F4-A960-4742-8055-8B014B0A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0CC32-4C53-4E0C-80CD-AE37FBF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D83FF-1BF4-47C6-B60D-132670FD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DE240-CD66-4971-A704-D2214526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9CFD-6FB2-4952-8EFD-7DEF94C8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A2B42-D026-45C6-8956-936F9892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C89A9-3A0D-4B8D-BA4C-39A1A768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515A6-DC4B-4C32-876D-B595B131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CAA92-EEFF-41F9-A963-B8D3FB78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742EA-2765-496D-B770-48D3E505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09F40-5711-433F-8D9F-FFC297E7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89F23-9138-434D-857C-7DC65AAC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40D04-6B43-4C40-9822-C7A3201C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D6FBF-CE97-4C56-8346-C908E199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512CE-C7C8-4FC5-A99A-A1AA9109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8C1F-7622-4F7E-82F3-40AE8FC1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DB612-7284-4DDD-9CEA-F8160B1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52EE4-B101-499B-A53D-D3982DE4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585DB-CA0F-4085-9C39-16710FBB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23A33-F39E-43F0-A7B0-3E38DBA3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55594-5621-4247-AE00-49EA6023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384C-C941-4A4F-84F2-3A2206EF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3596-AD3C-449D-B187-5606578A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D56E-E90D-4037-88CA-286C921B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BCD3-A796-42A3-817A-70030299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84E3-D453-464B-94CB-D33BF5F5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542-CCED-426A-8628-C474E530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9C7A-B587-43D6-9262-CD599F3A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A8D9-D5A1-46BC-90E5-E2067B8B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51A4-4B64-4D46-9534-58667CA8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F196-0652-417E-BC38-D2344049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140C-B845-415F-A06A-E4093849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9B14A-48B7-4DB4-B22E-5010BAF9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10879-846F-4E0A-95DE-1F440EB6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41CE3-74AC-467D-88BF-576D82B7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1C9CE-B34B-4F53-A157-18D7F863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F3E4-4020-4775-A315-A1CF465E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D53-77D7-461E-922E-3CB0EFBB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354E-8985-46B6-B88B-2D450398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FE9B-738B-432D-AE7A-EE8C15DF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7FCA-C8D7-4425-8153-24124949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6108-22AD-459E-AC43-F6A19BB0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814E-7D5A-48FB-9EE1-1E609420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C8F1-1297-4661-84BF-BB71F4BA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70A6-0ABE-4506-A603-F096A4FE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CA631-E74A-40AC-A25E-47DE4A13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0BBD7-249A-431F-B34E-53E45A50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F3D8-7650-4087-B6DF-A7E7642E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1F7-8AF0-41E8-ADAE-5C3A22A4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4D6A4-2934-47BB-A7C4-F315B42E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FF3FC-5252-4C63-924E-9A396897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1925C-F6D7-4DAB-8BF2-3BBA9FF3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100A9-1317-4486-B8A4-557C7E2A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EB25-4ACB-47CB-80D0-3AA7F1C1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F237C-49F5-4853-8674-44450412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573B-0B66-4978-9381-41570245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BE0F-4E68-4D26-86D9-8D844D27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43E07-B99C-414C-8262-89C2792D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E4003-3C14-4BB2-891D-36EB8416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2A5-96D4-48FC-82D2-CFE604BD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C3A75-DABB-45CD-81EC-31CD4A79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A0C6E-C98B-4F1C-8A80-8165BBC4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31DE3-6BF4-4AD8-8DBE-68223FBB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F42E3-FE0A-4E03-93D4-51F16567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13A8B-1CDE-4334-8265-C752EADC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4DD38-39F0-47B8-B311-AF9F5685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CACFF-AE98-473E-B7E9-77DB8851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C4526-9A83-4DF5-AB6B-043F18AE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E8651-65D1-4A46-B6BB-8AEF94A4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B776A-C71B-44E6-928F-C4B96D93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591-E1EF-4678-87C0-357F0631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FE754-F374-4F66-AA3D-E8B555F3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025FC-CF1E-4AED-88C7-B1B29F6D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F11AA-63F7-4553-AEAF-DDFD2EBF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056D0-E6BC-4EAC-9E24-49BCAE81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1A2FE-490D-47CE-83C7-A678D508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15BE3-02C0-42D1-9676-4F522FB6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5356C-4F24-4544-BC4E-34FBEE58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D4BC5-FACF-40B1-ADC4-7F968E0A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2958E-11A1-459B-82DB-E35B4D6D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BFA08-0229-451E-8781-0A8C1045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D64-B947-4099-B45B-AD3D8AB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99BBF-808D-45C0-BBCA-97B20E59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EACEF-A60A-4AD3-803F-14BA1F6B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8F3D9-2A68-498F-A1BE-C87F4CC0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FDDA7-55E6-4D75-AECD-1B9BBAAB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52A63-B5C5-47EB-9638-09FCDCEF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94098-611A-48F7-AC77-59390DD5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F8EE6-67C2-4253-BD50-B2EE7C69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94549-6EDA-4A32-A27B-6BEC34C6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83E9B-CC7E-487F-913A-65C7169D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6D2FE-8A9F-4461-B09C-4483D79D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451-8D22-425C-9F8A-11494C33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4A738-DA61-4A18-B1CE-29309C6C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BDEFA-B03F-44F8-8A8F-7CE50A12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2EDA2-3E50-48E4-A4C4-E016A947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906D6-7BA9-4C99-91DD-B8515090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2F87D-7165-4700-8647-7427AFA6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2E23E-8654-4D00-9B7F-FC826DD9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6B41E-C72D-4FC6-A2EF-DA19BB55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BA5E6-FC41-43FE-9D80-88D0A229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33AD4-EC12-458E-9FDD-C1BDF7C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423C5-0056-41B6-A807-0177B839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DBE-1436-43EB-BD5B-2D26EB09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7813B-77E1-4560-810B-1E4259EC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51419-A99B-4EBC-9EE0-60F0C01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DFF28-2CC6-47B1-86DA-07C8829E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85966-8CC0-4FB8-9485-09B400F1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92F7B-64A8-4DA1-8E46-AA4B693D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94338-3D2C-4337-8AED-A61243C1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3A98E-3935-4618-A915-BD29BF75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D7610-7592-4263-A695-C7B4519A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ADD72-898F-4597-AD2E-A579B73F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93F80-39E9-4D5C-A5DC-196122C6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9F51-7CB1-40E5-B315-F32A3533F7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2B3D-AFE5-4EAD-A11D-9BF9B0406A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A0BC-C12E-403E-8D20-118FF78328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565F-1B4B-4211-BDC4-796791BDC2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4E53-BBA6-48BC-AF86-0A1B756261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FF3A-5888-46E5-B8E3-D436F78BCB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295F-2D92-46B8-BBDC-882D1B3740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30DB-9513-4AD3-89ED-8E5AEC806D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20D6-15FB-4758-80D6-C7720515A8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8985-17CD-4A75-986A-25A9982C67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6D85-4319-4D29-A443-4E0429B8EC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23A5-ECA0-47B6-8D9E-B7C57DBA8C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54360" y="228240"/>
            <a:ext cx="9296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v diaľke sa tra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blíži sa no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lniečka zlatý lúč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áca už 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-54360" y="228240"/>
            <a:ext cx="9296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 vesmírnej diaľky jas luny sa sk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 modlitba vďaky nám zo srdca z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-52560" y="228240"/>
            <a:ext cx="931896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c tmavá už spriad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lášť svoj v údolia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t hviezdny naň pad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ťa strieborný pr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52560" y="228240"/>
            <a:ext cx="931896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tíchne dňa vra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nebeský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 spánku zas 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kláňa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1T13:23:18Z</dcterms:modified>
  <cp:revision>11</cp:revision>
  <dc:subject/>
  <dc:title>Je veľký náš Pán, on slávy je Kráľ Nech do všetkých strán  spev vrúcnych znie chvál.</dc:title>
</cp:coreProperties>
</file>